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FC9-4AD2-4D94-AFC7-50B14207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218-3814-4026-8686-8C51131E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A87-A9F9-4C0F-AAC7-3418ED2D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143-2E2C-43CA-A0A2-771916FF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A100-7EC3-42A8-913F-5D950037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690A-2977-4017-9E4B-21DD7092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62E9-CF3E-4AB7-8720-F2844C4A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A26B-BE2C-4DC7-B27B-6BC36A86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6B6D-0630-4C65-ACE1-A7EDBDFE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076C-CD26-4FB4-A534-2338F413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2841-B67E-45A7-B18D-E56CB1EB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54B-231D-437F-8E10-C14E5945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4A2B-DA1B-4A34-9F39-A06E68AD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4B8E-3059-454F-8255-20243CB0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0BA1-BA1E-4717-BE7E-55E708FD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F847-AC37-4C3F-968A-0F321722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89C5-7DF6-4E7C-A86D-7C5724F6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1D9-E476-4729-A64C-F9E4BB10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0D1-314D-41B1-A004-293A81A8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054-29FF-477B-8D2D-4F9672C6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45A-448E-48AD-859F-8D1E8C83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7F0-C0F0-4FB6-9EB8-AC2E2101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778-53C8-480E-B1A1-D48776C0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BF3-1645-4E13-A0B0-6862C001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B5E2-40BC-4AB6-81FA-AD1ADCFD15D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3248-841F-409E-8623-EB71805924E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dexmundi.com/china/gdp_per_capita_(ppp).html" TargetMode="External"/><Relationship Id="rId3" Type="http://schemas.openxmlformats.org/officeDocument/2006/relationships/hyperlink" Target="http://globalis.gvu.unu.edu/indicator_detail.cfm?IndicatorID=45&amp;Country=CN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apter 25:  Production &amp; Growth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astest way to help your count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ina rules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indexmundi.com/china/gdp_per_capita_(ppp).ht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globalis.gvu.unu.edu/indicator_detail.cfm?IndicatorID=45&amp;Country=C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orld Cultur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are the 3 requirements for civilizatio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does it still apply toda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ey el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ndation of productivity can be foun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  Increasing capital (both kind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 wary of DIMINISHING RETU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.  CATCH-UP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.  FOREIGN DIRECT INVES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LD BANK &amp; IM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s too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 to consi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ITIVE EXTERNALITIES of impro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AIN DR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ect of foreign tra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essimist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omas Malth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g unhappy wor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was he wrong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l that ever chang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tty basic chap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ill setting foundation for mac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wth is critical…get there through increased produ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W (page 55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FR: 1, 3, 4, 6, 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A: 1, 4, 7, 9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 big key concept--grow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sons for/ways to do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ok at foreign econom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CAB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nch of stuff coming back from micr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re, more, mor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viously we want mo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have a l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do some countries no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you can’t produce it, you don’t get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t’s still not enoug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re important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matters more…how much you have or how much you increas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nk about th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ppiness could be best defined by your incre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do you get i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ODUCTIVI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siest defined as OUTPUT/INP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find out a way to produce more with 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ways to do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nk factors of produ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ngs used to make every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re of them gets you more stuf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EY PART:  what does it look like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re specificall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Physical capi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 Human capi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 Natural resour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 Technological knowled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does society in general benefit from increased productivi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4:10:33Z</dcterms:created>
  <dc:creator>Lewisburg Area School District</dc:creator>
  <dc:description/>
  <dc:language>en-US</dc:language>
  <cp:lastModifiedBy>Lewisburg Area School District</cp:lastModifiedBy>
  <dcterms:modified xsi:type="dcterms:W3CDTF">2010-01-27T15:16:12Z</dcterms:modified>
  <cp:revision>7</cp:revision>
  <dc:subject/>
  <dc:title>Chapter 25:  Production &amp; Growth</dc:title>
</cp:coreProperties>
</file>